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E46-3736-484C-8146-D99FEDA0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7DF-22EA-488B-8A40-0B1FEBD1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373-9A2A-4E87-BD34-53A55548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43D-308F-494B-86C4-058C676F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7E3-FDDC-4EEA-B08C-184403E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7E4-66DE-4B0D-BC12-09B6B21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884-6F4E-4D95-AC48-B0B1E1C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C52-7B56-473F-B4A0-B0ABA092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0E4-01AF-447E-8E88-2B2FCA71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46F-6A75-462E-B4A2-20C5E334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FB0-CBA8-430F-84EE-5A7B270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0C0-AA83-421C-80CA-B45AA94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D52-1537-4FE4-AF80-5D00D091A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304920"/>
            <a:ext cx="5572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asa De Mis Suenos</a:t>
            </a:r>
            <a:endParaRPr b="0" lang="en-US" sz="4800" spc="1" strike="noStrike">
              <a:ln w="1908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475240" y="1865160"/>
            <a:ext cx="352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Mi casa esta localizada en Mi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i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iete dormi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b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c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ujoso com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No tiene y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os salas de tel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uarto d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o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ra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colum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37 Pine Hill Road, Miami 33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638680" y="380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04920" y="3657600"/>
            <a:ext cx="3352680" cy="2955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6160" y="4419720"/>
            <a:ext cx="54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Es el cuarto de las muchachas,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5410440" cy="361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5576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10880" y="495288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s el dormitorio principal es muy bonita 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4120" y="533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62412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3934080" cy="294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37040" y="430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20" y="3808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cuartos de los muchachos, muy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191120" cy="299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786120" cy="302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2971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Unicode MS"/>
              </a:rPr>
              <a:t>El es bano de grande y luj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48320" y="380880"/>
            <a:ext cx="41716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5334120" cy="347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4229280" cy="3137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08400" y="6462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cine es grande y lujo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0" y="5029200"/>
            <a:ext cx="44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La comedor es lujoso y un poco penqu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248160" cy="4109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5440" y="5410080"/>
            <a:ext cx="42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La piscina dentro el grande y </a:t>
            </a:r>
            <a:r>
              <a:rPr b="0" lang="es-ES" sz="1800" spc="-1" strike="noStrike">
                <a:solidFill>
                  <a:srgbClr val="9900ff"/>
                </a:solidFill>
                <a:latin typeface="Arial"/>
              </a:rPr>
              <a:t>diversión</a:t>
            </a: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8098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9160" y="21337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television es grande y luj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657600" y="3505320"/>
            <a:ext cx="47052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6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9600" y="2971800"/>
            <a:ext cx="34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62320" y="3448080"/>
            <a:ext cx="4981680" cy="340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8440" y="358128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Sala de juegos grande y 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46:58Z</dcterms:created>
  <dc:creator>capistrancad</dc:creator>
  <dc:description/>
  <dc:language>en-US</dc:language>
  <cp:lastModifiedBy>capistrancad</cp:lastModifiedBy>
  <dcterms:modified xsi:type="dcterms:W3CDTF">2012-05-25T14:01:29Z</dcterms:modified>
  <cp:revision>6</cp:revision>
  <dc:subject/>
  <dc:title>Slide 1</dc:title>
</cp:coreProperties>
</file>